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8BB-B43C-4E9D-9428-9CB11DEC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84F-5516-40BF-AC13-C7F46BB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DCC-17F4-44B8-96ED-9EB9D9A8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F41-137D-4F29-B367-75685740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CE3-65AA-4561-810B-02DFC2A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A59-04C1-4C42-BD62-609799B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058-D606-46C1-8591-0005F92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31D-F095-42FE-A941-46D3FF2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816-D5D9-45D3-A64E-FCC896B0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53A-62DA-4447-8F5D-3C02428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0CC-D76E-4CC0-B664-6D0FA0B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287-498B-4DDD-AF16-1B9270B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612360" indent="-61236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663480" indent="-3571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918720" indent="-3060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173960" indent="-254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1480320" indent="-25488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1480320" indent="-25488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1480320" indent="-25488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F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69B-271E-4340-93CE-7D0C6ABA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</a:rPr>
              <a:t>Who has better lung Capacity? Athletes vs. Non Athletes….Hmmmm…</a:t>
            </a:r>
            <a:endParaRPr b="0" lang="en-US" sz="54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By.Cristina Silva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Who has better lung Capacity? Athletes or non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I think that athletes will have better lungs just because they do sports which helps them with running and stuff like that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3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3 non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Penci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top watch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irst- I got all my materials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cond- get people 2 by 2 and test them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Third- Once they’re done I write down their scores and send them back to clas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Resul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It turned out I was right that athletes would have better lung capacity than non.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Conclusion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-8503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y hypothesis was right kind of…because some athletes had some pretty long times but yet some non athletes had a pretty long time also.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hank you to..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Erin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Steven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hrys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Shane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Veronica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im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aleb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3520" y="15238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06T14:34:44Z</dcterms:modified>
  <cp:revision>5</cp:revision>
  <dc:subject/>
  <dc:title>Title</dc:title>
</cp:coreProperties>
</file>